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173B-32DC-4C5B-B9B3-FEB9F846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949D-12BC-46D1-A366-C612AD65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1455-A807-44F1-9412-4296CEF8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4358-3224-4CD0-B3BC-7916E0F4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7D3F-4E2A-4E84-B26E-A36927267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ED4C-E3A7-4179-8112-865056F8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AFE6-3CA5-4D4C-8E72-3734EF55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2C93-0005-4C6C-AC6B-759A792C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02BC-1558-40F7-9604-815C3384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1FB1-219F-452B-9695-643B2FD8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F144-6376-41DA-933E-35BB0CE2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327C-585B-42B6-83DE-3D2DC6F8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2750-5A07-45FA-815B-E0C8A0AC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5A38-8C8B-4C07-80B4-33CE17BE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776D-1E8B-44C5-87A2-BE722ACD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EBAA-BDA2-4B5B-B1F1-8E2666178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4029-7370-4CBF-AC70-D5800B3D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82A1-7324-4A56-A4B8-2D848178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08C9-6EAF-4B6A-8E9D-14432B7F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1D89-9185-49BE-8C71-D81EFD1B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ABB0-275E-42F2-B7D5-1FA4E12D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74AE-5DA5-4670-B510-944E7AA4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ADD9-C21E-4DDD-A65C-9BE3F42F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DFD7-74F1-4F46-995A-7D02A8A8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5D64-0429-4898-BB2B-66635E81C7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4BC1-7C21-4A56-8EF1-97F45C64B9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he Univers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Jianna Alme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-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1, 20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lanet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587700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ight Yea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18932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ife Cycl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bula-Midsized Star- Red Giant- White Dwarf- Black Dwar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47920" y="3733920"/>
            <a:ext cx="610524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nstella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484812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 Sun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58957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362320" y="1828800"/>
            <a:ext cx="39718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uses of night and da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4191120" cy="3844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48320" y="2514600"/>
            <a:ext cx="4047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uses of the Seas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057400" y="2133720"/>
            <a:ext cx="5133960" cy="38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lar Eclip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14600" y="2209680"/>
            <a:ext cx="441000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alax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9607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ur Galax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135160" y="1447920"/>
            <a:ext cx="472284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steroids and Come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4572000" cy="3595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421956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18:07:12Z</dcterms:created>
  <dc:creator>jalmeida</dc:creator>
  <dc:description/>
  <dc:language>en-US</dc:language>
  <cp:lastModifiedBy>jalmeida</cp:lastModifiedBy>
  <dcterms:modified xsi:type="dcterms:W3CDTF">2011-04-01T18:18:18Z</dcterms:modified>
  <cp:revision>2</cp:revision>
  <dc:subject/>
  <dc:title>Slide 1</dc:title>
</cp:coreProperties>
</file>